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60E4E-7452-4B65-BCA1-980FBAECD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7FC03-EE64-4641-B6A6-34172B24E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9D310-79E5-41F4-8579-0E6CCE514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388E7-FB31-477C-B32C-9E9DEF78D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3B8F4-81E4-4ED8-A2B9-69A0ECA6D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3025C-9621-4028-A084-363721416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F145D-A3AE-4A1F-BCD1-3914A3D06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3537-FAE1-42D0-B4C1-C19CDFD4F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94FF6-3425-4DAC-92B0-8C795407A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C0970-FFE2-4613-BD41-D95FFB5C6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9488E-50DE-4304-AAE5-892F93D76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0B25E-E8A7-4928-A2CD-3EC32D45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9740D-2BD6-43C8-9F99-71FD40C66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1A6A-D7AB-45DC-98F5-6282B550E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DB89C-9199-4F65-A89E-C74044972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58D9D-8CA7-4DE0-A5E4-2822CB632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27AD0-2B93-481B-B2F8-DB30D6807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F9B86-7206-4884-A72F-2043347F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088D8-2621-4BBB-A265-12D72DBE3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7042-6DA5-4D0E-A49F-709851244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45AFA-C7F1-4CCB-AAFE-F327178BC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4349-A37D-47BE-B32F-3CC800C4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F4C3-8A9C-4B5D-B9DA-CD0F9145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23B4-ABDA-4843-B639-E0F8103C0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1EED-553B-4629-99D6-2AB1719E8EB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6167-4E05-44D8-828A-3B38BBCEED3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ces.ed.gov/nationsreportcard/pdf/stt2007/2007497NY4.pdf"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53316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99"/>
                </a:solidFill>
                <a:latin typeface="Arial Black"/>
              </a:rPr>
              <a:t>TECHNOLOGY </a:t>
            </a:r>
            <a:br>
              <a:rPr sz="4800"/>
            </a:br>
            <a:r>
              <a:rPr b="1" lang="en-US" sz="4800" spc="-1" strike="noStrike">
                <a:solidFill>
                  <a:srgbClr val="ffcc99"/>
                </a:solidFill>
                <a:latin typeface="Arial Black"/>
              </a:rPr>
              <a:t>AND LITERACY</a:t>
            </a:r>
            <a:endParaRPr b="0" lang="en-US" sz="4800" spc="-1" strike="noStrike">
              <a:solidFill>
                <a:srgbClr val="ffffff"/>
              </a:solidFill>
              <a:latin typeface="Tahoma"/>
            </a:endParaRPr>
          </a:p>
        </p:txBody>
      </p:sp>
      <p:sp>
        <p:nvSpPr>
          <p:cNvPr id="83" name="PlaceHolder 2"/>
          <p:cNvSpPr>
            <a:spLocks noGrp="1"/>
          </p:cNvSpPr>
          <p:nvPr>
            <p:ph type="subTitle"/>
          </p:nvPr>
        </p:nvSpPr>
        <p:spPr>
          <a:xfrm>
            <a:off x="1371600" y="2590920"/>
            <a:ext cx="6400800" cy="32004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ahoma"/>
              </a:rPr>
              <a:t>Jacqueline Gea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ahoma"/>
              </a:rPr>
              <a:t>702.2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ahoma"/>
              </a:rPr>
              <a:t>FALL 200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Black"/>
              </a:rPr>
              <a:t>TABLE OF CONTENT</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66"/>
                </a:solidFill>
                <a:latin typeface="American Typewriter Condensed"/>
              </a:rPr>
              <a:t>INTRODUCTION:</a:t>
            </a:r>
            <a:endParaRPr b="0" lang="en-US" sz="4000" spc="-1" strike="noStrike">
              <a:solidFill>
                <a:srgbClr val="ffffff"/>
              </a:solidFill>
              <a:latin typeface="Tahoma"/>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American Typewriter Condensed"/>
              </a:rPr>
              <a:t> </a:t>
            </a:r>
            <a:r>
              <a:rPr b="0" lang="en-US" sz="4000" spc="-1" strike="noStrike">
                <a:solidFill>
                  <a:srgbClr val="00cc66"/>
                </a:solidFill>
                <a:latin typeface="American Typewriter Condensed"/>
              </a:rPr>
              <a:t>Statement of the problem</a:t>
            </a:r>
            <a:endParaRPr b="0" lang="en-US" sz="4000" spc="-1" strike="noStrike">
              <a:solidFill>
                <a:srgbClr val="ffffff"/>
              </a:solidFill>
              <a:latin typeface="Tahoma"/>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American Typewriter Condensed"/>
              </a:rPr>
              <a:t>Review of related literacy </a:t>
            </a:r>
            <a:endParaRPr b="0" lang="en-US" sz="4000" spc="-1" strike="noStrike">
              <a:solidFill>
                <a:srgbClr val="ffffff"/>
              </a:solidFill>
              <a:latin typeface="Tahoma"/>
            </a:endParaRPr>
          </a:p>
          <a:p>
            <a:pPr marL="343080" indent="-34308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American Typewriter Condensed"/>
              </a:rPr>
              <a:t>Statement of the Hypothesis</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STATEMENT OF THE PROBLEM</a:t>
            </a:r>
            <a:endParaRPr b="0" lang="en-US" sz="44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2007, 34% of New York Public School forth grade students were reading below basic reading levels. This shows that schools need to experiment with different literacy programs that will improve reading skills.  Using technology to improve literacy (E-Books or Leapfrog programs) can increase students reading skills because technology is interactive, include visual, and audio effects which can help children stay focused while reading.  </a:t>
            </a:r>
            <a:endParaRPr b="0" lang="en-US" sz="2400" spc="-1" strike="noStrike">
              <a:solidFill>
                <a:srgbClr val="ffffff"/>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ording to National Reading Re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5c8ff"/>
                </a:solidFill>
                <a:uFillTx/>
                <a:latin typeface="Tahoma"/>
                <a:hlinkClick r:id="rId2"/>
              </a:rPr>
              <a:t>http://nces.ed.gov/nationsreportcard/pdf/stt2007/2007497NY4.pdf</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REVIEW OF RELATED LITERACTURE</a:t>
            </a:r>
            <a:endParaRPr b="0" lang="en-US" sz="44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t>
            </a:r>
            <a:r>
              <a:rPr b="0" lang="en-CA" sz="2000" spc="-1" strike="noStrike">
                <a:solidFill>
                  <a:srgbClr val="ffffff"/>
                </a:solidFill>
                <a:latin typeface="Arial"/>
              </a:rPr>
              <a:t>Technology has enabled our generation to externalize – through video, pictures, audio, text, and simulation – our ideas.”</a:t>
            </a:r>
            <a:r>
              <a:rPr b="0" lang="en-CA" sz="1800" spc="-1" strike="noStrike">
                <a:solidFill>
                  <a:srgbClr val="ffffff"/>
                </a:solidFill>
                <a:latin typeface="Arial"/>
              </a:rPr>
              <a:t> (</a:t>
            </a:r>
            <a:r>
              <a:rPr b="0" lang="en-CA" sz="1800" spc="-1" strike="noStrike">
                <a:solidFill>
                  <a:srgbClr val="ffffff"/>
                </a:solidFill>
                <a:latin typeface="Times New Roman"/>
              </a:rPr>
              <a:t>Siemens, 2009) </a:t>
            </a:r>
            <a:endParaRPr b="0" lang="en-US" sz="1800" spc="-1" strike="noStrike">
              <a:solidFill>
                <a:srgbClr val="ffffff"/>
              </a:solidFill>
              <a:latin typeface="Tahoma"/>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s of technology and literacy:</a:t>
            </a:r>
            <a:endParaRPr b="0" lang="en-US" sz="2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books encourage children to repeat words they heard and imitating the tone of voice and sound effects. </a:t>
            </a:r>
            <a:r>
              <a:rPr b="0" lang="en-CA" sz="1800" spc="-1" strike="noStrike">
                <a:solidFill>
                  <a:srgbClr val="ffffff"/>
                </a:solidFill>
                <a:latin typeface="Arial"/>
              </a:rPr>
              <a:t>(Chen &amp;Price, 2006)</a:t>
            </a:r>
            <a:endParaRPr b="0" lang="en-US" sz="1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echnology provides an opportunity to enhance and extend old literacy practices. </a:t>
            </a:r>
            <a:r>
              <a:rPr b="0" lang="en-CA" sz="1800" spc="-1" strike="noStrike">
                <a:solidFill>
                  <a:srgbClr val="ffffff"/>
                </a:solidFill>
                <a:latin typeface="Arial"/>
              </a:rPr>
              <a:t>(Larson, 2008)</a:t>
            </a:r>
            <a:endParaRPr b="0" lang="en-US" sz="1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Pro’s</a:t>
            </a:r>
            <a:endParaRPr b="0" lang="en-US" sz="44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eapfrog books are not intimidating and are interactive. Also gives teachers more time to work with slow readers. </a:t>
            </a:r>
            <a:r>
              <a:rPr b="0" lang="en-CA" sz="1800" spc="-1" strike="noStrike">
                <a:solidFill>
                  <a:srgbClr val="ffffff"/>
                </a:solidFill>
                <a:latin typeface="Arial"/>
              </a:rPr>
              <a:t>(Mollin &amp; Williams, 2005)</a:t>
            </a:r>
            <a:endParaRPr b="0" lang="en-US" sz="1800" spc="-1" strike="noStrike">
              <a:solidFill>
                <a:srgbClr val="ffffff"/>
              </a:solidFill>
              <a:latin typeface="Tahoma"/>
            </a:endParaRPr>
          </a:p>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tudents using the computer as a reading source can process information more rapidly and are able to multi-task. </a:t>
            </a:r>
            <a:r>
              <a:rPr b="0" lang="en-CA" sz="1800" spc="-1" strike="noStrike">
                <a:solidFill>
                  <a:srgbClr val="ffffff"/>
                </a:solidFill>
                <a:latin typeface="Arial"/>
              </a:rPr>
              <a:t>(Park &amp; Helsel, 2008)</a:t>
            </a:r>
            <a:endParaRPr b="0" lang="en-US" sz="1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Pro’s</a:t>
            </a:r>
            <a:endParaRPr b="0" lang="en-US" sz="4400" spc="-1" strike="noStrike">
              <a:solidFill>
                <a:srgbClr val="ff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lectronic text is the way of the future; “reading is an interaction between you and the text.” </a:t>
            </a:r>
            <a:r>
              <a:rPr b="0" lang="en-CA" sz="1800" spc="-1" strike="noStrike">
                <a:solidFill>
                  <a:srgbClr val="ffffff"/>
                </a:solidFill>
                <a:latin typeface="Arial"/>
              </a:rPr>
              <a:t>(Reinking, 1997)</a:t>
            </a:r>
            <a:endParaRPr b="0" lang="en-US" sz="1800" spc="-1" strike="noStrike">
              <a:solidFill>
                <a:srgbClr val="ffffff"/>
              </a:solidFill>
              <a:latin typeface="Tahoma"/>
            </a:endParaRPr>
          </a:p>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books are helpful for students with disabilities; include interactive reading with sound and animation. </a:t>
            </a:r>
            <a:r>
              <a:rPr b="0" lang="en-CA" sz="1800" spc="-1" strike="noStrike">
                <a:solidFill>
                  <a:srgbClr val="ffffff"/>
                </a:solidFill>
                <a:latin typeface="Arial"/>
              </a:rPr>
              <a:t>(Rhodes &amp; Milby, 2007)</a:t>
            </a:r>
            <a:endParaRPr b="0" lang="en-US" sz="1800" spc="-1" strike="noStrike">
              <a:solidFill>
                <a:srgbClr val="ffffff"/>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s of Technology and Literacy</a:t>
            </a:r>
            <a:endParaRPr b="0" lang="en-US" sz="4400" spc="-1" strike="noStrike">
              <a:solidFill>
                <a:srgbClr val="ffffff"/>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dult educators do not all feel comfortable using and teaching with technology in the classroom. </a:t>
            </a:r>
            <a:r>
              <a:rPr b="0" lang="en-CA" sz="1800" spc="-1" strike="noStrike">
                <a:solidFill>
                  <a:srgbClr val="ffffff"/>
                </a:solidFill>
                <a:latin typeface="Arial"/>
              </a:rPr>
              <a:t>(Kop &amp; Hill, 2008)</a:t>
            </a:r>
            <a:endParaRPr b="0" lang="en-US" sz="1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ading on the Internet is different then reading from a book, “much of it is now in short, unfiltered, unedited bites.” </a:t>
            </a:r>
            <a:r>
              <a:rPr b="0" lang="en-CA" sz="1800" spc="-1" strike="noStrike">
                <a:solidFill>
                  <a:srgbClr val="ffffff"/>
                </a:solidFill>
                <a:latin typeface="Arial"/>
              </a:rPr>
              <a:t>(Smith &amp; Young, 2008)</a:t>
            </a:r>
            <a:endParaRPr b="0" lang="en-US" sz="1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CON’S</a:t>
            </a:r>
            <a:endParaRPr b="0" lang="en-US" sz="4400" spc="-1" strike="noStrike">
              <a:solidFill>
                <a:srgbClr val="ff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Using technology causes social isolation and limits communication with peers and teachers. </a:t>
            </a:r>
            <a:r>
              <a:rPr b="0" lang="en-CA" sz="1800" spc="-1" strike="noStrike">
                <a:solidFill>
                  <a:srgbClr val="ffffff"/>
                </a:solidFill>
                <a:latin typeface="Arial"/>
              </a:rPr>
              <a:t>(McGrail, 2007)</a:t>
            </a:r>
            <a:endParaRPr b="0" lang="en-US" sz="1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ahoma"/>
              </a:rPr>
              <a:t>STATEMENT OF THE HYPOTHESIS</a:t>
            </a:r>
            <a:endParaRPr b="0" lang="en-US" sz="4400" spc="-1" strike="noStrike">
              <a:solidFill>
                <a:srgbClr val="ffffff"/>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003366"/>
                </a:solidFill>
                <a:latin typeface="Times New Roman"/>
              </a:rPr>
              <a:t>In P.S. X, Twenty 4</a:t>
            </a:r>
            <a:r>
              <a:rPr b="1" lang="en-US" sz="3200" spc="-1" strike="noStrike" baseline="30000">
                <a:solidFill>
                  <a:srgbClr val="003366"/>
                </a:solidFill>
                <a:latin typeface="Times New Roman"/>
              </a:rPr>
              <a:t>th</a:t>
            </a:r>
            <a:r>
              <a:rPr b="1" lang="en-US" sz="3200" spc="-1" strike="noStrike">
                <a:solidFill>
                  <a:srgbClr val="003366"/>
                </a:solidFill>
                <a:latin typeface="Times New Roman"/>
              </a:rPr>
              <a:t> grade students will obtain higher reading skills in literacy while using Electronic Books (E-Books) and the Leapfrog program in four week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06:42Z</dcterms:created>
  <dc:creator>Jaqueline Geary</dc:creator>
  <dc:description/>
  <dc:language>en-US</dc:language>
  <cp:lastModifiedBy>Jaqueline Geary</cp:lastModifiedBy>
  <dcterms:modified xsi:type="dcterms:W3CDTF">2009-10-22T17:40:36Z</dcterms:modified>
  <cp:revision>1</cp:revision>
  <dc:subject/>
  <dc:title>TECHNOLOGY  AND LITERACY</dc:title>
</cp:coreProperties>
</file>